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47F-A5B7-4B58-BFB9-68397873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7B0-5D99-4720-8AF1-7DA006E4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442-E24C-444D-B6F3-6B1653D9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E60-B447-4A71-817E-B07D5BD1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289-F490-4AB4-AD35-649A2E5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8F8-AAE3-429F-854D-C3AF9C37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330-879F-4859-8E03-50C58894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62B-530F-4761-95A1-52F0EFA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047-6A5F-4F4A-B265-6600ACA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628-066A-41F6-BFD1-3973AF3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BFC-5016-4D17-964F-2777BD1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C8B-4613-48AC-A3EB-CDC5753C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B444-58CE-49C2-BC50-25BA39E23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4.gif"/><Relationship Id="rId11" Type="http://schemas.openxmlformats.org/officeDocument/2006/relationships/hyperlink" Target="http://www.pbase.com/digitales/spanje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digitales/spanj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basic food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more foods and to decide what food groups they go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find out what each other likes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strengthen knowledge of the verb “gu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8000" y="4869000"/>
            <a:ext cx="64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486900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salchich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salchichas al vino"/>
          <p:cNvPicPr/>
          <p:nvPr/>
        </p:nvPicPr>
        <p:blipFill>
          <a:blip r:embed="rId1"/>
          <a:stretch/>
        </p:blipFill>
        <p:spPr>
          <a:xfrm>
            <a:off x="3143160" y="652320"/>
            <a:ext cx="4884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oll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21028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869000"/>
            <a:ext cx="77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2610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Jamon Serano,  Pata Negr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61040" cy="351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08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8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306864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08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8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2017800" cy="173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0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0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1942920" cy="1522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0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0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108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8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ques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81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diferente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628640"/>
          <a:ext cx="8229600" cy="2275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19080"/>
                <a:gridCol w="1471680"/>
                <a:gridCol w="1646280"/>
              </a:tblGrid>
              <a:tr h="17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láct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 y legum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azucar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 gr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 y maris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32400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iñones / huevos / un past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aceite / trucha / mejillones / guisantes / yogur / mantequilla / gambas / alubias / leche / pollo / cordero / pera / nata / bistec / margarina / queso / cerdo /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0"/>
            <a:ext cx="864072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m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t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him /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o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le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no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n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o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les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you (pl. po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_ gust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for plur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jam</a:t>
            </a:r>
            <a:r>
              <a:rPr b="0" lang="en-GB" sz="9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Jamon Serano,  Pata Neg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escado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carn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52720" y="1407960"/>
            <a:ext cx="37800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 fru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09840" y="620640"/>
            <a:ext cx="33638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486900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las verdur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762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109520"/>
            <a:ext cx="5040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8000" y="48690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0" spc="-1" strike="noStrike">
                <a:solidFill>
                  <a:srgbClr val="000000"/>
                </a:solidFill>
                <a:latin typeface="Arial"/>
              </a:rPr>
              <a:t>el arroz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281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2:00:39Z</dcterms:created>
  <dc:creator>Owner1</dc:creator>
  <dc:description/>
  <dc:language>en-US</dc:language>
  <cp:lastModifiedBy>Owner1</cp:lastModifiedBy>
  <dcterms:modified xsi:type="dcterms:W3CDTF">2008-10-23T12:27:32Z</dcterms:modified>
  <cp:revision>2</cp:revision>
  <dc:subject/>
  <dc:title>Slide 1</dc:title>
</cp:coreProperties>
</file>